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418-87C4-499D-B8E9-9ED9B1A5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D93-5F35-4832-B31B-74855344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872-F5B9-4624-AF07-BA167283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52A-16DF-4501-B658-FEA495B1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A184-B8B2-4605-9510-A1F30E61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F9E3-5A63-4CFB-BFFB-B646E4AD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31A1-8B72-46D2-BE0C-71D8A9FA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402A-40FC-42FE-9AAF-22C50864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BB01-DF88-4115-923C-A2A4ABB9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2456-F7DC-4833-ADAD-FE989D95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91AD-8BB3-4CBD-A845-43475504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04D-98AD-477B-A287-31F850F3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C5D7-CB31-48F6-BE11-026E894A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A8F5-AC93-438F-BEEA-6BC7DE44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CEC8-1017-4216-A83C-8409B8C1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FFC7-EF13-44FD-A230-97B27B61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8FC3-C51E-4B0D-8DFF-61CA6A9F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B558-7A54-49BA-B74F-CF048FF7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F15C5-DC45-4751-88A7-3E2EFEAA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C5D6F-57B3-40CF-A40A-AA7AE275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0C241-A9D3-444F-B1AD-F9012DDE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3C6C1-888A-4359-9F74-57532D6F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D1F-8102-414A-BEC3-DE292968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62AC-4B0C-4327-AC7A-F3BECA8F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28852-7422-44D9-B9BA-8A1BC4E2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DA94-0DD9-4D3A-85BC-01565E60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5D856-745D-49B8-83A7-2F6EDE11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89AFD-047E-4890-BFD7-BC1847A2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80A78-6A5F-4F5E-BF35-7F4B27E6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22B75-EE28-46F7-90B9-F6955140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69D4C-4150-4577-8334-475D5044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005E8-ABD0-4550-A718-DF64F6E7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4DEF3-3B86-45F8-9EC9-7F267311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146-C331-462E-836A-E2B438E0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20AD5-7366-4E70-B312-7CEC0C42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34068-0E4E-4FEA-9E1C-009EC8CE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94009-98DE-46ED-870A-BE04266E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77AC1-9814-4FA1-B086-75EC9A53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FA631-9A05-4607-A517-D9176056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D2FA0-16BA-47A7-BA22-DCEA0841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F458-3046-4DCC-9803-124A3F8E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9EDD5-059B-443E-9AD7-D5AE7531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692CC-71FC-4F2A-AB93-FB1D9079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422-BC04-41FC-A4BE-BB9FD064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D79-697C-4DFF-8753-99F1847B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93B4-3A10-4076-8D5B-4BF3F39C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0FC-FC02-42DE-9E87-033E211B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CC1-F1A7-4808-B2BC-77F3245B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C1F3-0F94-456A-9E41-A83EC2B96956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51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E1E5-CE18-4003-8174-33218EE7CEE6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98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9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6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47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2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95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96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8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09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16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6FCE-06BD-4B8F-9037-000E43DCE118}" type="slidenum">
              <a:rPr b="0" lang="lt-L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63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4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1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312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3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0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1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3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374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381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06A0-6422-4BF9-B018-9432D7F9F122}" type="slidenum">
              <a:rPr b="0" lang="lt-L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PSICHOLOGIJOS </a:t>
            </a:r>
            <a:r>
              <a:rPr b="0" lang="lt-LT" sz="4000" spc="-1" strike="noStrike">
                <a:solidFill>
                  <a:srgbClr val="330033"/>
                </a:solidFill>
                <a:latin typeface="Times New Roman"/>
              </a:rPr>
              <a:t>TYRIMŲ </a:t>
            </a: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METODAI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Tyrimo etap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 klausimas,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uojama hipotez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uomenų rinkimo būdo planavimas – tyrimo technikos ir strategijos pasirink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 atlikima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duomenų surink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uomenų analiz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vadų dary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Tyrimo technikos: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vejo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tebėj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klausos (žodžiu, raš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estav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ATVEJO ANALIZĖ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no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r keli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vej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yri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sam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ng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rantant retus atve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astas reprezentat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alizavimo sunku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lus darbui ir laik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ėjo šališk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STEBĖJIMAS 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rganizuotas, tikslingas tam tikrų reiškinių suvok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ivalu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Betarpišku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tūrali aplin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ai tiriamieji negali verbaliai išreikšti to, ko reik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ai tiriamieji nenori kalbėt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Galimybė atsižvelgti į natūralų kontekst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Išorinio stebėjimo tipai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Arial"/>
              </a:rPr>
              <a:t>Stebėjimas neįsikišant/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tūraliomis sąlygom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Arial"/>
              </a:rPr>
              <a:t>Stebėjimas įsikišan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Eksperimentinis/laboratorinis stebėj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ruktūruotas/išprovokuotas stebėj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ebėjimas dalyvauj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linikinis stebėj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APKLAUSOS ir jų formo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truktūruotas/laisvas/pusiau struktūruotas pokalb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štu/žodž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viri/uždari klausimai, Likert’o tipo skal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Apklausų trūkum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noras atsakyti, sąmoningai nuslėp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io pageidaujamumo reiškin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flektyvumo st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es įtaka praeities įvykių atgaminim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ausimo nesuprat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Testavimas 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LAUSIMY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ESTAVIMAS (nor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Testų rūšy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Žinių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Bendrųjų gebėjimų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Intelekto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Asmenybės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Projekciniai testai (Rorschachas, HTP, kinetinis šeimos piešinys, papildymo metodikos, spalvų testai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PSICHOLOGIJOS TYRIM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psichologijos ša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tyrimo srit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Baz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Taikomiej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siję su psichologijos instrument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jum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kintamųjų pobūd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iekyb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okyb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Bendrieji tyrimo tiksl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raš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aišk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mat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ntroliuo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er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Sąvokos</a:t>
            </a: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techn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 empirinių duomenų rinkimo būd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vz., testai, steb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ėjimas, apklau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r kt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rimo strateg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 bendras tyrimo planas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aprašomoji, koreliacinė ir eksperimentin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metod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konkreti empirinių duomenų rinkimo ir jų registravimo procedūra, tiksliai nurodanti visas tyrimo sąlygas ir atliekamų veiksmų eig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Rorschacho, HTP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1 ir kt.)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Tyrimo strategijos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omo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 Atvejo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reliaci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ksperimentin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KORELIACINĖ STRATEGIJA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tato ryšį tarp dviejų ar daugiau veiksni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urodo pri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ingu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eigiama koreliac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igiama koreliac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reliacijos koeficien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+/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EKSPERIMENTINĖ STRATEGIJA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iklausomas kintam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priklausomas kintam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ekiama nustatyti ir paaiškinti ryšio tarp nepriklausomo ir priklausomo kintamojo pobūd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Kas gali iškreipti rezultatus?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rankos kompon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bo efek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ai fenomenas, kai žmogaus reakciją į gydymą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(poveikį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mia ne pats gydymas, o laukima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sperimentatoriaus šališku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imbar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nfordo kal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ėjimo tyr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S.Milgramo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Konformiškumo ir paklusnumo tyrim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Psichologinių tyrimų pvz:  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imbar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tanfordo kal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ėjimo tyr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S.Milgramo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Konformiškumo ir paklusnumo tyrim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1:26:52Z</dcterms:created>
  <dc:creator>SPPS2</dc:creator>
  <dc:description/>
  <dc:language>en-US</dc:language>
  <cp:lastModifiedBy> </cp:lastModifiedBy>
  <dcterms:modified xsi:type="dcterms:W3CDTF">2007-08-29T12:38:26Z</dcterms:modified>
  <cp:revision>28</cp:revision>
  <dc:subject/>
  <dc:title>PSICHOLOGIJOS METODAI</dc:title>
</cp:coreProperties>
</file>